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ct" ContentType="image/x-pict"/>
  <Override PartName="/ppt/media/image3.pct" ContentType="image/x-pict"/>
  <Override PartName="/ppt/media/image4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E4F7-0D1B-42A7-AD8D-565ADDB90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C4AD-F2D6-4B1E-9987-2C24C1733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2E89-7890-44EF-A957-ED9A037E2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ED9D-0A8B-4072-8DFB-0C55B1AF9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17A34-9591-42F6-BC2A-8EE40D386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1813D-D4B9-4830-8BEF-3076767B9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F749E-5AE2-4C02-8BA2-A016787CE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67135-86A3-4970-9181-995342B27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9D76D-2601-4894-80B9-734AFB1B4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49000" y="107640"/>
            <a:ext cx="804204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8BC0D-F928-4A80-97AB-793B4A639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5A910-162B-448B-A4E0-B27A99924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126F-08FC-47F3-877B-F570680BC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DC300-A9B4-4E2F-9532-53E485D86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5AEB2-945C-4B4E-9FF6-10ECC6C63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DA846-0629-499F-99C2-E145E3F10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CBA79-2608-44F9-AB26-F369B52C9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AF881-17E8-4BB9-9719-A8BB2A797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3585-9F99-432A-A532-E4803C6D1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8B34-9FFA-4A83-9F4C-762072734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FBCE-0E46-4E31-8315-4DB9F3569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000" y="107640"/>
            <a:ext cx="804204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EE2C-A115-44F6-9A2A-DCA8B1BB5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59EA-B31E-4B09-8245-0D5BE4498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B42B-3F00-4D73-8858-7AEE8052D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DEF4-3547-4AEE-A880-2A581D274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4" marL="15462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5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6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CC019C-9AEF-4313-818E-141FBECDE01B}" type="datetime">
              <a:rPr b="0" lang="en-US" sz="1200" spc="-1" strike="noStrike">
                <a:solidFill>
                  <a:srgbClr val="ffffff"/>
                </a:solidFill>
                <a:latin typeface="News Gothic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9F828E-A089-4283-86AC-6CBAFAE8ECF5}" type="slidenum">
              <a:rPr b="0" lang="en-US" sz="3600" spc="-1" strike="noStrike">
                <a:solidFill>
                  <a:srgbClr val="ffffff"/>
                </a:solidFill>
                <a:latin typeface="News Gothic MT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1328760" y="1295280"/>
            <a:ext cx="6486480" cy="31528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4" marL="15462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5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6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8B7BC2-6DB0-4BE9-A21F-417C405D3EB9}" type="datetime">
              <a:rPr b="0" lang="en-US" sz="1200" spc="-1" strike="noStrike">
                <a:solidFill>
                  <a:srgbClr val="ffffff"/>
                </a:solidFill>
                <a:latin typeface="News Gothic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E66909-B87A-4122-AEBA-07BAB1EDB177}" type="slidenum">
              <a:rPr b="0" lang="en-US" sz="3600" spc="-1" strike="noStrike">
                <a:solidFill>
                  <a:srgbClr val="ffffff"/>
                </a:solidFill>
                <a:latin typeface="News Gothic MT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ct"/><Relationship Id="rId3" Type="http://schemas.openxmlformats.org/officeDocument/2006/relationships/image" Target="../media/image4.pct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22280" y="1523880"/>
            <a:ext cx="6499440" cy="1725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Animal Phyla Char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700"/>
            </a:br>
            <a:r>
              <a:rPr b="0" lang="en-US" sz="3700" spc="-1" strike="noStrike">
                <a:solidFill>
                  <a:srgbClr val="2c7c9f"/>
                </a:solidFill>
                <a:latin typeface="News Gothic MT"/>
              </a:rPr>
              <a:t>Respiration</a:t>
            </a:r>
            <a:br>
              <a:rPr sz="3700"/>
            </a:br>
            <a:endParaRPr b="0" lang="en-US" sz="37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Gills (aquatic species)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rachea  (terrestrial insects)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 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Book lungs  (arachnids)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ext Placeholder 2" descr=""/>
          <p:cNvPicPr/>
          <p:nvPr/>
        </p:nvPicPr>
        <p:blipFill>
          <a:blip r:embed="rId2"/>
          <a:stretch/>
        </p:blipFill>
        <p:spPr>
          <a:xfrm>
            <a:off x="380880" y="1143000"/>
            <a:ext cx="4114800" cy="50292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4952880" y="762120"/>
            <a:ext cx="381024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Arthropods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85" name="Text Placeholder 2" descr=""/>
          <p:cNvPicPr/>
          <p:nvPr/>
        </p:nvPicPr>
        <p:blipFill>
          <a:blip r:embed="rId2"/>
          <a:stretch/>
        </p:blipFill>
        <p:spPr>
          <a:xfrm>
            <a:off x="1066680" y="1752480"/>
            <a:ext cx="678204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991720" cy="208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 u="sng">
                <a:solidFill>
                  <a:srgbClr val="2c7c9f"/>
                </a:solidFill>
                <a:uFillTx/>
                <a:latin typeface="News Gothic MT"/>
              </a:rPr>
              <a:t>Miscellaneous:</a:t>
            </a:r>
            <a:r>
              <a:rPr b="0" lang="en-US" sz="4100" spc="-1" strike="noStrike">
                <a:solidFill>
                  <a:srgbClr val="2c7c9f"/>
                </a:solidFill>
                <a:latin typeface="News Gothic MT"/>
              </a:rPr>
              <a:t> </a:t>
            </a:r>
            <a:br>
              <a:rPr sz="4100"/>
            </a:br>
            <a:r>
              <a:rPr b="0" lang="en-US" sz="4100" spc="-1" strike="noStrike">
                <a:solidFill>
                  <a:srgbClr val="2c7c9f"/>
                </a:solidFill>
                <a:latin typeface="News Gothic MT"/>
              </a:rPr>
              <a:t>-Symmetry       -Body cavity</a:t>
            </a:r>
            <a:br>
              <a:rPr sz="4100"/>
            </a:br>
            <a:r>
              <a:rPr b="0" lang="en-US" sz="4100" spc="-1" strike="noStrike">
                <a:solidFill>
                  <a:srgbClr val="2c7c9f"/>
                </a:solidFill>
                <a:latin typeface="News Gothic MT"/>
              </a:rPr>
              <a:t> -Number of germ cell layers</a:t>
            </a:r>
            <a:endParaRPr b="0" lang="en-US" sz="41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2590920"/>
            <a:ext cx="8229600" cy="35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Bilateral symmetry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oelomate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3 germ cell layer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Body Support/Movemen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549000" y="1980720"/>
            <a:ext cx="80420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Exoskeleton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----------------------------------------------------------------------------------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Muscles (swim, crawl, fly)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Nervous Control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549000" y="2209680"/>
            <a:ext cx="804204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mall anterior brain with ventral nerve cord &amp; ganglia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Reproduction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549000" y="2057040"/>
            <a:ext cx="80420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xual:  separate sexes with internal fertilization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Digestion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80520" y="20570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omplete digestive tract with specialized regions (mouth, pharynx, etc.)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irculation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549000" y="1905120"/>
            <a:ext cx="80420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Open system with dorsal heart &amp; blood vessel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Excretion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49000" y="1905120"/>
            <a:ext cx="80420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Malphigian tubules (insects &amp; arachnids)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Green gland (crustaceans)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2T00:17:18Z</dcterms:created>
  <dc:creator>Keith or Sherri Holmgren</dc:creator>
  <dc:description/>
  <dc:language>en-US</dc:language>
  <cp:lastModifiedBy>NHS NPS</cp:lastModifiedBy>
  <dcterms:modified xsi:type="dcterms:W3CDTF">2012-05-15T14:18:49Z</dcterms:modified>
  <cp:revision>9</cp:revision>
  <dc:subject/>
  <dc:title>Animal Phyla Chart</dc:title>
</cp:coreProperties>
</file>